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EC05-A3C1-480A-9EE7-A56AF2360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98640" y="539640"/>
            <a:ext cx="4860720" cy="3645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RPOS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how the different emphases of the Content Standards across the gr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A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igure shows the different emphases of the Content Standards across the grade-bands.  For example, at the Pre-K-2 level, Number and Operations receives much more emphasis than Algebra but Algebra receives more attention in 9-12 than Number and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meant only to be suggestive;  much of an instructional program may integrate the various Standards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 POINTS FOR 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e Mathematics is integrated through the Standards (se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inciples and Standard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. 31 for discussion.)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inciples and Standard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.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ECB0-9204-4166-9473-A8983EFB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BC3-F06E-4CE3-9DB0-C48C4779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40B-A5C1-4EE3-8ADD-31EEC1BC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A08-4BE7-4959-808E-6FDECC57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CE1-216F-419C-AE5C-E676E25A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4F5-3CBA-4CD8-8E60-0AAB5B0B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50C-D68F-455C-AA83-D4C95CC5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17E-BA78-4792-BCDD-1E3431AC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583E-6EC9-4822-9990-A09095C0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6FA3-1717-4BA4-8665-523382B7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D53-9D2A-4C54-B4F2-FDE1EBA0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2C00-C294-4B32-9F08-38628A82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0620-0FD3-4811-8DAD-2DB898B8D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phasis Across the Gr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514600"/>
            <a:ext cx="163512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3429000"/>
            <a:ext cx="1193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42670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5029200"/>
            <a:ext cx="1841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715000"/>
            <a:ext cx="201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Analysis and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2133720"/>
            <a:ext cx="1295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K–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2133720"/>
            <a:ext cx="901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–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2133720"/>
            <a:ext cx="901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–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2133720"/>
            <a:ext cx="90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–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95480" y="2514600"/>
            <a:ext cx="3824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al- Model-Symbol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666880" y="2286000"/>
          <a:ext cx="449604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86000"/>
                    <a:ext cx="44960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886200" y="19810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952880"/>
            <a:ext cx="22860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4876920"/>
            <a:ext cx="198108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ten and Or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352680" y="2743200"/>
            <a:ext cx="762120" cy="12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87440" y="5180760"/>
            <a:ext cx="1503000" cy="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852160" y="2768400"/>
            <a:ext cx="716400" cy="1321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0" y="17175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7:43:10Z</dcterms:created>
  <dc:creator>Bonnie Gabriel</dc:creator>
  <dc:description/>
  <dc:language>en-US</dc:language>
  <cp:lastModifiedBy>Bonnie Gabriel</cp:lastModifiedBy>
  <dcterms:modified xsi:type="dcterms:W3CDTF">2005-03-02T17:47:08Z</dcterms:modified>
  <cp:revision>1</cp:revision>
  <dc:subject/>
  <dc:title>Emphasis Across the Grades</dc:title>
</cp:coreProperties>
</file>